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20D-52FE-4C7E-8593-A849EA29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E67-5E46-4352-9756-3918135D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0D8-0D6E-48AC-9CDA-4BD8F02E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D8E-7BC4-436F-A531-5E94A98E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E9B-266C-48D3-BBF4-672361BF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989-3368-4DDC-BC75-6642B2AE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A03-7161-4107-817C-55A6ACEC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FB9-A32B-4519-AAA0-64BA5AE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BFF-F396-47BE-B5D6-FB4A8234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D84-A098-4206-9B3D-0813C32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D31-DEE2-47B0-926F-5C49D4C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320-5659-44C9-BCA4-1168BFD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DDCF-8FB3-48E4-A8AB-ECCA5EDED57E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26028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9. Útügyi Nap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őr, 2014. szeptember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846360" y="2895480"/>
            <a:ext cx="76179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 hosszú élettartamú útpályaszerkezetek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apcsolatos  európai kutatási eredmén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és építési gyakor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r. habil. Gáspár Lászl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ó professzor, KTI Nonprofit K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91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3. Az átlagosnál hosszabb élettartamú utak vizsgál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280" y="1980720"/>
            <a:ext cx="8425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980-as években KÖTUKI: 216 db, min. 13 éves   kopóréteg vizsgálatának néhány eredmény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ött talajú földművön nem lehe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agy f = F100/H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azdaságosab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tőanyag nélküli alap nem rosszabb a kötőanya-gosná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in. 2,5-ös v/D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ax. 3 tf% hézag és 100%-hoz közeli tömörség (felső két aszfaltréte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98108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2006-2012. ELLPAG-projekt: hosszú élettarta-mú burkolatokkal foglalkozó európai munka-csoport (9 ország, közte H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Cél: információgyűjtés, használói útmutatók, útügyi szervezetek seg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lcsoportok: definíció,  új pályaszerkezet, álla-potfelmérés és felújítás, fenntartás (HU), gaz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aságosság, hiányzó ismerete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Definíció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: tartós szerkezet földműve és alapré-tege – forgalom, környezet, öregedés, anyag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veszteség, rossz építésminőség miatt – nem hibásodik meg; az esetleges hibák a burkolati rétegre korlátozódn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árom vizsgálati fázis: a hajlékony, a félig me-rev és a merev pályaszerkezete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oncepció csak USA-ban és Egyesült Király-ságban. Min. 300 mm-nyi aszfalt (maximált nyúlás alsó szálban). Nagy forgalomnál lehet gazdaságos. Földmű tartós állékonysága elő-feltétel. Különleges építéstechnológia lehet szükséges. Kiváló kivitelezési minősé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ás tervezési módszer és építési eljárás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I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989000"/>
            <a:ext cx="849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lettartam-költségekben elérhető megtakarí-tás. Pályaszerkezet-szilárdság küszöbértéke.  Máshol több lépcsőben erősítés ilyen céll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ól megépített, vastag aszfaltburkolatú pálya-szerkezet teherbíró földművön: legfeljebb fe- lülről burkolati repedés. Felső réteg periodikus cseréje szükséges. Rendszeres állapotfelvé-tel az optimális beavatkozás tervezéséhez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19890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öltség-haszon elemzés: angol HA modellje (létesítményi és hálózati szint) és OECD PASI modellje (az amerikai SAS-modell adaptáció-ja). Költségek: építés, fenntartás, értékválto-zás, baleseti, idő-, környezeti és forgalom-szervezési költség. (A beavatkozás alatti úthasználói költségeket is számítják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2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Félig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Jellegzetes felépíté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00-290 mm-nyi aszfaltrétege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50-300 mm-es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ivétel Franciaorszá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60 mm aszfaltréte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ár 450 mm-nyi cement kötőanyagú rét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989000"/>
            <a:ext cx="878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étféle stratégia: repedések elkerülése, ill. tűrése (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eflexiós repedés elle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lőrepesztés 3,0-3,5 m-enként (CRAFT, Olivia, Joint actif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AM, esetleg előrepesztéss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yorsan törő emulziós 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vés hőt fejlesztő ceme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vastag aszfalt-pályaszerkezetrés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LPAG-projekt V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20606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ihetetlen” francia tapasztala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190 mm B →   3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00 mm B →   50 é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 mm A + 210 mm B → 100 é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, ha teherbírásuk nem csökk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osszrepedés vagy sűrű keresztrepedés → szerkeze- ti hiba (teherátadás megszűné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UK: 200 mm-nyi aszfalt korlátozza a repedést felülrő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000" y="184464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4.3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Merev pályaszerkeze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urópai gyakorlat: URC, CRCP, (JR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olytonosan vasalt változat: B, F, NL, U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Merev burkolat tervezése: tapasztalati ada-tok, laboratóriumi adatokkal alátámaszt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Hosszú élettartamhoz egyenletes és tartós alap. (Földmű kevésbé terhel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Tartalomjegyz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55736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urkolat-élettartam előrebecsl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átlagosnál hosszabb élettartalmú uta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LLPAG-proje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1 Hajlékony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2 Félig merev pályaszerkez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4.3 Merev pályaszerkezet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„örökké tartó” burkol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50904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Néhány ajánl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4. Az ELPAG-projekt 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Hatékony felújítá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j betonréteg (hozzákötött vagy nem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ljes pályaszerkezet-cs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rack and seat” + vasalatlan beton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űrészelt hézagú aszfalt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zúzalékrétegen új réteg(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rt beton alapként történő újrahasznosítása.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2002-2004. OECD-munkabizottság: hosszú élet-tartamú kopóréteg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Döntő: tervezés, anyagok, bedolgoz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Számos változat közül a HDM-4 és az angol mo-dell alkalmazásával választott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poxi-aszfalt és a nagy teljesítményű beton bi- zonyult legígéretesebb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munka II: fázisa: kísérleti szakaszok vizsgál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z Egyesült Államokban az „örökké tartó” burkolatok elvét az AASHO-útkísérletekre, a „michigan-i” konfe-rencia-sorozatra és a mechanikai-tapasztalati terve-zési eljárásra vezetik vis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ellemző felépít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35-75 mm-es mZMA vagy Superpave kopóréte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100-150 mm-nyi nagy modulusú aszfaltréteg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75-100 mm-nyi fáradásnak ellenálló aszfal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jó minőségű alsó alapréteg és földm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5. Az „örökké tartó” burkolatok I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ervezési kritériu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szfaltrétegek alatti vízszintes megnyúl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ükrön fajlagos összenyomód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orlátozá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önkremeneteli hatá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réknyomokban 10 %-nyi  reped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el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: fegyelmezett építés, gyakorlott és lelkiismere-tes személyzet, egyértelmű és korszerű szabályo-zás, minden elemre kiterjedő minőségbiztosítá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6. Néhány aján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84464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Korábbi hazai és külföldi tapasztalatok alapján a hosszú bur-kolat-élettartamhoz szüksé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elegendő pénz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on gondolkodó úttulajdon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emzetgazdasági érdekeket tükröző szabályozási rendsz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elkészült és elkötelezett útkezelő, -fennta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zzáértő és lelkiismeretes tervező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jó minőségre törekvő alapanyag-gyárt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hosszú távra tervező kivitelező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az újdonságokra fogékony „érdekelt fele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zövegdoboz 1"/>
          <p:cNvSpPr/>
          <p:nvPr/>
        </p:nvSpPr>
        <p:spPr>
          <a:xfrm>
            <a:off x="539640" y="2708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  <a:ea typeface="Arial"/>
              </a:rPr>
              <a:t>Köszönöm a szíves figyelmüke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Az utak élettartama és befolyásoló tényezői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Útélettartam definiálá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modulo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unkcióképessé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beavatkozási hatá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rétegek megváltozott funkciój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túlüzemeltetés”, ún. pénzügyi élettar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Pályaszerkezet élettartamát befolyásoló tényezők szinergikus hatá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forgalom (járműszám, tengelyterhelés, -elrende-zés, jármű felfüggesztése, szezonális eloszlás, forgalomfejlődés járműkategóriánként, forgalmi sáv szélesség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környezet (tervezéskor ismert: talaj, mikroklíma, földrengés-, árvízveszélyesség; tervezéskor nem ismert: egyes éghajlat-változási elemek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1. Az utak élettartama és befolyásoló tényezői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ervezés (szabályozáson túl, hozzáértő, gondos, víztelenítés!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építés (felkészült, lelkiismeretes, hosszabb távon gondolkodó, teljesítményi alapú szer-ződé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nntartás (időben, szakszerű, megelőző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elújítás (időben, színvonalas tervezés és végrehajtá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Leromlási folyamat, állapotparaméter, leromlási görbe – hálózatviselkedési modell, beavatkozá-si és figyelmeztető határ, maradékérték, telje-sítményi jelzőszá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73-79. KÖTUKI: 32 szakasz évi kétszeri álla-potvizsgálata (kézi és gépi mérés, szubjektív jellemzés, kopásmérés, várható élettartam-tar-tomány tervezési kategóriánké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 Burkolat-élettartam előrebecslése II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1991 óta 60 szakasz évi egyszeri „monito-rozása”: 14 osztály, 6 állapotparaméter, pontosodó hálózatviselkedési modellek állapotparaméterenként idő és forgalom függvényében, beavatkozás után annak jellemzőit és hatását mérik fel, hasznosí-tás PMS-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I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Tartalom helye 3" descr="48.CGM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2. Burkolat-élettartam előrebecslése I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artalom helye 3" descr="76.CGM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7:21:54Z</dcterms:created>
  <dc:creator>Keleti Imre</dc:creator>
  <dc:description/>
  <dc:language>en-US</dc:language>
  <cp:lastModifiedBy>Gáspár László, Dr. habil.</cp:lastModifiedBy>
  <dcterms:modified xsi:type="dcterms:W3CDTF">2014-09-12T11:13:29Z</dcterms:modified>
  <cp:revision>50</cp:revision>
  <dc:subject/>
  <dc:title>PowerPoint bemutató</dc:title>
</cp:coreProperties>
</file>